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42D0-D4CD-418C-BB6B-DFF1560D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310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0920" y="4192560"/>
            <a:ext cx="8310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9158-6303-497A-A40A-F1D9CC68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40554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9360" y="1484280"/>
            <a:ext cx="40554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920" y="4192560"/>
            <a:ext cx="40554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9360" y="4192560"/>
            <a:ext cx="40554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0F64-A447-4F03-9D16-6193696D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26758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1080" y="1484280"/>
            <a:ext cx="26758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30880" y="1484280"/>
            <a:ext cx="26758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0920" y="4192560"/>
            <a:ext cx="26758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1080" y="4192560"/>
            <a:ext cx="26758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30880" y="4192560"/>
            <a:ext cx="267588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10D9-C863-485E-9411-EB0CE92A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0920" y="1484280"/>
            <a:ext cx="8310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1244-2A22-4763-B124-13F49721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310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DE5B-901F-4672-9E9E-63D9648D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4055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9360" y="1484280"/>
            <a:ext cx="4055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769B-E1D4-492D-8738-1B5C8976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F400-7235-4F2E-A8B5-4F8D2108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85680"/>
            <a:ext cx="780876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D7BD-F539-417D-819F-617B0B90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40554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9360" y="1484280"/>
            <a:ext cx="4055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0920" y="4192560"/>
            <a:ext cx="40554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1A9B-0598-4B1D-9501-526E471F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4055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9360" y="1484280"/>
            <a:ext cx="40554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9360" y="4192560"/>
            <a:ext cx="40554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57F-DA6B-4D73-BA7F-530B1A58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40554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9360" y="1484280"/>
            <a:ext cx="40554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0920" y="4192560"/>
            <a:ext cx="8310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212-CE5F-4BE4-93CF-F75B8796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8"/>
          <p:cNvSpPr/>
          <p:nvPr/>
        </p:nvSpPr>
        <p:spPr>
          <a:xfrm>
            <a:off x="0" y="1371600"/>
            <a:ext cx="611280" cy="54864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10920" y="1484280"/>
            <a:ext cx="8310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1C70-2606-4B36-9206-4D313FB6FB7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20" descr="interna barra"/>
          <p:cNvPicPr/>
          <p:nvPr/>
        </p:nvPicPr>
        <p:blipFill>
          <a:blip r:embed="rId2"/>
          <a:stretch/>
        </p:blipFill>
        <p:spPr>
          <a:xfrm>
            <a:off x="0" y="0"/>
            <a:ext cx="9144000" cy="1365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" name="Rectangle 57"/>
          <p:cNvSpPr/>
          <p:nvPr/>
        </p:nvSpPr>
        <p:spPr>
          <a:xfrm>
            <a:off x="181080" y="1371600"/>
            <a:ext cx="228600" cy="548640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a2a2a2"/>
              </a:gs>
              <a:gs pos="100000">
                <a:srgbClr val="3333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in.ufpe.br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pic>
        <p:nvPicPr>
          <p:cNvPr id="45" name="Picture 9" descr="di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28600"/>
            <a:ext cx="1600200" cy="7430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1"/>
          <p:cNvSpPr/>
          <p:nvPr/>
        </p:nvSpPr>
        <p:spPr>
          <a:xfrm>
            <a:off x="2209680" y="4343400"/>
            <a:ext cx="51055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Marcus Salerno de Aqui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Fernando da Fonseca de Sou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lejandro C. Fre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Text Box 16"/>
          <p:cNvSpPr/>
          <p:nvPr/>
        </p:nvSpPr>
        <p:spPr>
          <a:xfrm>
            <a:off x="1187280" y="1484280"/>
            <a:ext cx="6769440" cy="21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Verdana"/>
              </a:rPr>
              <a:t>VEPers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Verdana"/>
              </a:rPr>
              <a:t>Uma Infra-Estrutura para Geração e Manutenção de Ambientes Virtuais Adaptativ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Objetivos - VEPersonal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532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ropor, construir e validar uma </a:t>
            </a: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infra-estrutura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ara gerenciamento de componentes de ambientes virtuais adaptativos em função do perfil do usuár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cc"/>
                </a:solidFill>
                <a:latin typeface="Verdana"/>
              </a:rPr>
              <a:t>Objetivos Específ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Gerar e manter ambientes virtuais utilizando ferramentas com </a:t>
            </a:r>
            <a:r>
              <a:rPr b="0" lang="pt-BR" sz="1800" spc="-1" strike="noStrike">
                <a:solidFill>
                  <a:srgbClr val="0000cc"/>
                </a:solidFill>
                <a:latin typeface="Verdana"/>
              </a:rPr>
              <a:t>suporte a Web e tecnologias X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Gerar conteúdos com </a:t>
            </a:r>
            <a:r>
              <a:rPr b="0" lang="pt-BR" sz="1800" spc="-1" strike="noStrike">
                <a:solidFill>
                  <a:srgbClr val="0000cc"/>
                </a:solidFill>
                <a:latin typeface="Verdana"/>
              </a:rPr>
              <a:t>vários níveis de inform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e utilizá-los de acordo com o perfil do usuár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Gerar </a:t>
            </a:r>
            <a:r>
              <a:rPr b="0" lang="pt-BR" sz="1800" spc="-1" strike="noStrike">
                <a:solidFill>
                  <a:srgbClr val="0000cc"/>
                </a:solidFill>
                <a:latin typeface="Verdana"/>
              </a:rPr>
              <a:t>ambientes personalizados em tempo real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atualizando o AV em função do conhecimento adquirido pelo usuár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Gerenciar e recuperar objetos 3D para </a:t>
            </a:r>
            <a:r>
              <a:rPr b="0" lang="pt-BR" sz="1800" spc="-1" strike="noStrike">
                <a:solidFill>
                  <a:srgbClr val="0000cc"/>
                </a:solidFill>
                <a:latin typeface="Verdana"/>
              </a:rPr>
              <a:t>facilitar o reu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Tecnologias utilizadas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pic>
        <p:nvPicPr>
          <p:cNvPr id="87" name="Picture 4" descr="Fg1 Tecnologias usadas no VEPErsonal"/>
          <p:cNvPicPr/>
          <p:nvPr/>
        </p:nvPicPr>
        <p:blipFill>
          <a:blip r:embed="rId1"/>
          <a:stretch/>
        </p:blipFill>
        <p:spPr>
          <a:xfrm>
            <a:off x="1258920" y="1413000"/>
            <a:ext cx="6875280" cy="515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Arquitetura do VEPersonal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grpSp>
        <p:nvGrpSpPr>
          <p:cNvPr id="89" name="Group 54"/>
          <p:cNvGrpSpPr/>
          <p:nvPr/>
        </p:nvGrpSpPr>
        <p:grpSpPr>
          <a:xfrm>
            <a:off x="7763040" y="2625840"/>
            <a:ext cx="359280" cy="3916080"/>
            <a:chOff x="7763040" y="2625840"/>
            <a:chExt cx="359280" cy="3916080"/>
          </a:xfrm>
        </p:grpSpPr>
        <p:sp>
          <p:nvSpPr>
            <p:cNvPr id="90" name="Text Box 28"/>
            <p:cNvSpPr/>
            <p:nvPr/>
          </p:nvSpPr>
          <p:spPr>
            <a:xfrm rot="16200000">
              <a:off x="7323480" y="4245840"/>
              <a:ext cx="129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SERVIDOR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AutoShape 30"/>
            <p:cNvSpPr/>
            <p:nvPr/>
          </p:nvSpPr>
          <p:spPr>
            <a:xfrm>
              <a:off x="7763040" y="2625840"/>
              <a:ext cx="126720" cy="3916080"/>
            </a:xfrm>
            <a:prstGeom prst="upDownArrow">
              <a:avLst>
                <a:gd name="adj1" fmla="val 50000"/>
                <a:gd name="adj2" fmla="val 6152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53"/>
          <p:cNvGrpSpPr/>
          <p:nvPr/>
        </p:nvGrpSpPr>
        <p:grpSpPr>
          <a:xfrm>
            <a:off x="7763040" y="1411200"/>
            <a:ext cx="363960" cy="1098720"/>
            <a:chOff x="7763040" y="1411200"/>
            <a:chExt cx="363960" cy="1098720"/>
          </a:xfrm>
        </p:grpSpPr>
        <p:sp>
          <p:nvSpPr>
            <p:cNvPr id="93" name="Text Box 29"/>
            <p:cNvSpPr/>
            <p:nvPr/>
          </p:nvSpPr>
          <p:spPr>
            <a:xfrm rot="16200000">
              <a:off x="7423920" y="1806840"/>
              <a:ext cx="109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LIENT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AutoShape 31"/>
            <p:cNvSpPr/>
            <p:nvPr/>
          </p:nvSpPr>
          <p:spPr>
            <a:xfrm>
              <a:off x="7763040" y="1495440"/>
              <a:ext cx="114120" cy="1004760"/>
            </a:xfrm>
            <a:prstGeom prst="upDownArrow">
              <a:avLst>
                <a:gd name="adj1" fmla="val 50000"/>
                <a:gd name="adj2" fmla="val 175273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5" name="Group 52"/>
          <p:cNvGrpSpPr/>
          <p:nvPr/>
        </p:nvGrpSpPr>
        <p:grpSpPr>
          <a:xfrm>
            <a:off x="1415880" y="1563840"/>
            <a:ext cx="5910480" cy="5178240"/>
            <a:chOff x="1415880" y="1563840"/>
            <a:chExt cx="5910480" cy="5178240"/>
          </a:xfrm>
        </p:grpSpPr>
        <p:sp>
          <p:nvSpPr>
            <p:cNvPr id="96" name="Text Box 26"/>
            <p:cNvSpPr/>
            <p:nvPr/>
          </p:nvSpPr>
          <p:spPr>
            <a:xfrm>
              <a:off x="3741840" y="3581280"/>
              <a:ext cx="57312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Arial"/>
                </a:rPr>
                <a:t>Msg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7" name="Group 51"/>
            <p:cNvGrpSpPr/>
            <p:nvPr/>
          </p:nvGrpSpPr>
          <p:grpSpPr>
            <a:xfrm>
              <a:off x="1415880" y="1563840"/>
              <a:ext cx="5910480" cy="5178240"/>
              <a:chOff x="1415880" y="1563840"/>
              <a:chExt cx="5910480" cy="5178240"/>
            </a:xfrm>
          </p:grpSpPr>
          <p:sp>
            <p:nvSpPr>
              <p:cNvPr id="98" name="AutoShape 38"/>
              <p:cNvSpPr/>
              <p:nvPr/>
            </p:nvSpPr>
            <p:spPr>
              <a:xfrm>
                <a:off x="4087800" y="4965840"/>
                <a:ext cx="246240" cy="484200"/>
              </a:xfrm>
              <a:prstGeom prst="upDownArrow">
                <a:avLst>
                  <a:gd name="adj1" fmla="val 50000"/>
                  <a:gd name="adj2" fmla="val 39145"/>
                </a:avLst>
              </a:prstGeom>
              <a:solidFill>
                <a:srgbClr val="ffefd1">
                  <a:alpha val="7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9" name="Group 50"/>
              <p:cNvGrpSpPr/>
              <p:nvPr/>
            </p:nvGrpSpPr>
            <p:grpSpPr>
              <a:xfrm>
                <a:off x="1415880" y="1563840"/>
                <a:ext cx="5910480" cy="5178240"/>
                <a:chOff x="1415880" y="1563840"/>
                <a:chExt cx="5910480" cy="5178240"/>
              </a:xfrm>
            </p:grpSpPr>
            <p:grpSp>
              <p:nvGrpSpPr>
                <p:cNvPr id="100" name="Text Box 5"/>
                <p:cNvGrpSpPr/>
                <p:nvPr/>
              </p:nvGrpSpPr>
              <p:grpSpPr>
                <a:xfrm>
                  <a:off x="1415880" y="2036880"/>
                  <a:ext cx="5910480" cy="317520"/>
                  <a:chOff x="1415880" y="2036880"/>
                  <a:chExt cx="5910480" cy="317520"/>
                </a:xfrm>
              </p:grpSpPr>
              <p:pic>
                <p:nvPicPr>
                  <p:cNvPr id="101" name="Text Box 5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415880" y="2036880"/>
                    <a:ext cx="59104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" name=""/>
                  <p:cNvSpPr/>
                  <p:nvPr/>
                </p:nvSpPr>
                <p:spPr>
                  <a:xfrm>
                    <a:off x="1423440" y="2042280"/>
                    <a:ext cx="5895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400" spc="-1" strike="noStrike">
                        <a:solidFill>
                          <a:srgbClr val="000000"/>
                        </a:solidFill>
                        <a:latin typeface="Arial"/>
                      </a:rPr>
                      <a:t>INTERFACE GRÁFICA (BROWSER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3" name="Text Box 6"/>
                <p:cNvSpPr/>
                <p:nvPr/>
              </p:nvSpPr>
              <p:spPr>
                <a:xfrm>
                  <a:off x="2845800" y="2397240"/>
                  <a:ext cx="991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200" spc="-1" strike="noStrike">
                      <a:solidFill>
                        <a:srgbClr val="000000"/>
                      </a:solidFill>
                      <a:latin typeface="Times New Roman"/>
                    </a:rPr>
                    <a:t>Senso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4" name="Text Box 7"/>
                <p:cNvSpPr/>
                <p:nvPr/>
              </p:nvSpPr>
              <p:spPr>
                <a:xfrm>
                  <a:off x="4472280" y="2435400"/>
                  <a:ext cx="984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200" spc="-1" strike="noStrike">
                      <a:solidFill>
                        <a:srgbClr val="000000"/>
                      </a:solidFill>
                      <a:latin typeface="Times New Roman"/>
                    </a:rPr>
                    <a:t>Atuado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" name="Oval 8"/>
                <p:cNvSpPr/>
                <p:nvPr/>
              </p:nvSpPr>
              <p:spPr>
                <a:xfrm>
                  <a:off x="2167920" y="3848040"/>
                  <a:ext cx="1135440" cy="887400"/>
                </a:xfrm>
                <a:prstGeom prst="ellipse">
                  <a:avLst/>
                </a:prstGeom>
                <a:solidFill>
                  <a:srgbClr val="ffff8b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" name="Text Box 9"/>
                <p:cNvSpPr/>
                <p:nvPr/>
              </p:nvSpPr>
              <p:spPr>
                <a:xfrm>
                  <a:off x="2199600" y="4010040"/>
                  <a:ext cx="1065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gente Pessoal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7" name="Oval 10"/>
                <p:cNvSpPr/>
                <p:nvPr/>
              </p:nvSpPr>
              <p:spPr>
                <a:xfrm>
                  <a:off x="5193000" y="3857760"/>
                  <a:ext cx="1230120" cy="946080"/>
                </a:xfrm>
                <a:prstGeom prst="ellipse">
                  <a:avLst/>
                </a:prstGeom>
                <a:solidFill>
                  <a:srgbClr val="ffff8b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" name="Text Box 11"/>
                <p:cNvSpPr/>
                <p:nvPr/>
              </p:nvSpPr>
              <p:spPr>
                <a:xfrm>
                  <a:off x="5112000" y="3989520"/>
                  <a:ext cx="141552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gente Ambi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" name="Oval 12"/>
                <p:cNvSpPr/>
                <p:nvPr/>
              </p:nvSpPr>
              <p:spPr>
                <a:xfrm>
                  <a:off x="3636000" y="4078440"/>
                  <a:ext cx="1160640" cy="887400"/>
                </a:xfrm>
                <a:prstGeom prst="ellipse">
                  <a:avLst/>
                </a:prstGeom>
                <a:solidFill>
                  <a:srgbClr val="ffff8b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0" name="Text Box 13"/>
                <p:cNvSpPr/>
                <p:nvPr/>
              </p:nvSpPr>
              <p:spPr>
                <a:xfrm>
                  <a:off x="3553920" y="4173480"/>
                  <a:ext cx="1312560" cy="58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gente Atualizador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1" name="Oval 14"/>
                <p:cNvSpPr/>
                <p:nvPr/>
              </p:nvSpPr>
              <p:spPr>
                <a:xfrm>
                  <a:off x="3566520" y="2625840"/>
                  <a:ext cx="1159200" cy="887400"/>
                </a:xfrm>
                <a:prstGeom prst="ellipse">
                  <a:avLst/>
                </a:prstGeom>
                <a:solidFill>
                  <a:srgbClr val="ffff8b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" name="Text Box 15"/>
                <p:cNvSpPr/>
                <p:nvPr/>
              </p:nvSpPr>
              <p:spPr>
                <a:xfrm>
                  <a:off x="3509280" y="2757600"/>
                  <a:ext cx="13096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gente Gere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3" name="Line 16"/>
                <p:cNvSpPr/>
                <p:nvPr/>
              </p:nvSpPr>
              <p:spPr>
                <a:xfrm flipH="1">
                  <a:off x="3111480" y="3359160"/>
                  <a:ext cx="573480" cy="563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4" name="Line 17"/>
                <p:cNvSpPr/>
                <p:nvPr/>
              </p:nvSpPr>
              <p:spPr>
                <a:xfrm>
                  <a:off x="4562640" y="3421080"/>
                  <a:ext cx="737640" cy="646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" name="Line 18"/>
                <p:cNvSpPr/>
                <p:nvPr/>
              </p:nvSpPr>
              <p:spPr>
                <a:xfrm flipV="1">
                  <a:off x="4165200" y="3513240"/>
                  <a:ext cx="43920" cy="565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6" name="Text Box 19"/>
                <p:cNvSpPr/>
                <p:nvPr/>
              </p:nvSpPr>
              <p:spPr>
                <a:xfrm>
                  <a:off x="3675600" y="1563840"/>
                  <a:ext cx="11466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USUÁRIO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" name="Line 20"/>
                <p:cNvSpPr/>
                <p:nvPr/>
              </p:nvSpPr>
              <p:spPr>
                <a:xfrm flipV="1">
                  <a:off x="4247280" y="1817280"/>
                  <a:ext cx="0" cy="236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8" name="Line 21"/>
                <p:cNvSpPr/>
                <p:nvPr/>
              </p:nvSpPr>
              <p:spPr>
                <a:xfrm>
                  <a:off x="3672360" y="2382840"/>
                  <a:ext cx="164520" cy="322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9" name="Line 22"/>
                <p:cNvSpPr/>
                <p:nvPr/>
              </p:nvSpPr>
              <p:spPr>
                <a:xfrm flipV="1">
                  <a:off x="4410360" y="2382480"/>
                  <a:ext cx="162720" cy="322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" name="Text Box 23"/>
                <p:cNvSpPr/>
                <p:nvPr/>
              </p:nvSpPr>
              <p:spPr>
                <a:xfrm>
                  <a:off x="3018600" y="3351240"/>
                  <a:ext cx="559080" cy="37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Msg</a:t>
                  </a:r>
                  <a:endParaRPr b="0" lang="en-US" sz="1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" name="Text Box 24"/>
                <p:cNvSpPr/>
                <p:nvPr/>
              </p:nvSpPr>
              <p:spPr>
                <a:xfrm>
                  <a:off x="4781160" y="3417840"/>
                  <a:ext cx="511200" cy="37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Msg </a:t>
                  </a:r>
                  <a:endParaRPr b="0" lang="en-US" sz="1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" name="Text Box 25"/>
                <p:cNvSpPr/>
                <p:nvPr/>
              </p:nvSpPr>
              <p:spPr>
                <a:xfrm>
                  <a:off x="4247280" y="3700440"/>
                  <a:ext cx="781920" cy="40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Times New Roman"/>
                    </a:rPr>
                    <a:t>Objetos X3D</a:t>
                  </a:r>
                  <a:endParaRPr b="0" lang="en-US" sz="1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3" name="Line 27"/>
                <p:cNvSpPr/>
                <p:nvPr/>
              </p:nvSpPr>
              <p:spPr>
                <a:xfrm>
                  <a:off x="4002120" y="3835440"/>
                  <a:ext cx="0" cy="2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" name="Line 32"/>
                <p:cNvSpPr/>
                <p:nvPr/>
              </p:nvSpPr>
              <p:spPr>
                <a:xfrm>
                  <a:off x="4410360" y="3513240"/>
                  <a:ext cx="0" cy="24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" name="AutoShape 33"/>
                <p:cNvSpPr/>
                <p:nvPr/>
              </p:nvSpPr>
              <p:spPr>
                <a:xfrm>
                  <a:off x="2514960" y="5208480"/>
                  <a:ext cx="3357000" cy="1533600"/>
                </a:xfrm>
                <a:prstGeom prst="flowChartMagneticDisk">
                  <a:avLst/>
                </a:prstGeom>
                <a:gradFill rotWithShape="0">
                  <a:gsLst>
                    <a:gs pos="0">
                      <a:srgbClr val="76765e"/>
                    </a:gs>
                    <a:gs pos="50000">
                      <a:srgbClr val="ffffcc"/>
                    </a:gs>
                    <a:gs pos="100000">
                      <a:srgbClr val="76765e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" name="Text Box 34"/>
                <p:cNvSpPr/>
                <p:nvPr/>
              </p:nvSpPr>
              <p:spPr>
                <a:xfrm>
                  <a:off x="3318120" y="5715000"/>
                  <a:ext cx="189540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200" spc="-1" strike="noStrike">
                      <a:solidFill>
                        <a:srgbClr val="000000"/>
                      </a:solidFill>
                      <a:latin typeface="Arial"/>
                    </a:rPr>
                    <a:t>Ambientes Virtuais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" name="Text Box 35"/>
                <p:cNvSpPr/>
                <p:nvPr/>
              </p:nvSpPr>
              <p:spPr>
                <a:xfrm>
                  <a:off x="2739960" y="6119640"/>
                  <a:ext cx="1406160" cy="459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200" spc="-1" strike="noStrike">
                      <a:solidFill>
                        <a:srgbClr val="000000"/>
                      </a:solidFill>
                      <a:latin typeface="Arial"/>
                    </a:rPr>
                    <a:t>Modelo do Usuário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" name="Text Box 36"/>
                <p:cNvSpPr/>
                <p:nvPr/>
              </p:nvSpPr>
              <p:spPr>
                <a:xfrm>
                  <a:off x="4237920" y="6119640"/>
                  <a:ext cx="1405800" cy="459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200" spc="-1" strike="noStrike">
                      <a:solidFill>
                        <a:srgbClr val="000000"/>
                      </a:solidFill>
                      <a:latin typeface="Arial"/>
                    </a:rPr>
                    <a:t>Modelo do Ambi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" name="Text Box 37"/>
                <p:cNvSpPr/>
                <p:nvPr/>
              </p:nvSpPr>
              <p:spPr>
                <a:xfrm>
                  <a:off x="3755160" y="5870520"/>
                  <a:ext cx="1021320" cy="17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000" spc="-1" strike="noStrike">
                      <a:solidFill>
                        <a:srgbClr val="000000"/>
                      </a:solidFill>
                      <a:latin typeface="Arial"/>
                    </a:rPr>
                    <a:t>Objetos 3D</a:t>
                  </a:r>
                  <a:endParaRPr b="0" lang="en-US" sz="1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" name="AutoShape 39"/>
                <p:cNvSpPr/>
                <p:nvPr/>
              </p:nvSpPr>
              <p:spPr>
                <a:xfrm rot="19970400">
                  <a:off x="2896200" y="4719240"/>
                  <a:ext cx="275400" cy="725400"/>
                </a:xfrm>
                <a:prstGeom prst="upDownArrow">
                  <a:avLst>
                    <a:gd name="adj1" fmla="val 50000"/>
                    <a:gd name="adj2" fmla="val 52436"/>
                  </a:avLst>
                </a:prstGeom>
                <a:solidFill>
                  <a:srgbClr val="ffefd1">
                    <a:alpha val="78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" name="AutoShape 40"/>
                <p:cNvSpPr/>
                <p:nvPr/>
              </p:nvSpPr>
              <p:spPr>
                <a:xfrm rot="1701000">
                  <a:off x="5297040" y="4724280"/>
                  <a:ext cx="281880" cy="685800"/>
                </a:xfrm>
                <a:prstGeom prst="upDownArrow">
                  <a:avLst>
                    <a:gd name="adj1" fmla="val 50000"/>
                    <a:gd name="adj2" fmla="val 48434"/>
                  </a:avLst>
                </a:prstGeom>
                <a:solidFill>
                  <a:srgbClr val="ffefd1">
                    <a:alpha val="78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32" name="Oval 41"/>
          <p:cNvSpPr/>
          <p:nvPr/>
        </p:nvSpPr>
        <p:spPr>
          <a:xfrm>
            <a:off x="1116000" y="1808280"/>
            <a:ext cx="6697800" cy="757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Oval 42"/>
          <p:cNvSpPr/>
          <p:nvPr/>
        </p:nvSpPr>
        <p:spPr>
          <a:xfrm>
            <a:off x="3147840" y="2428920"/>
            <a:ext cx="2016360" cy="1368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Oval 43"/>
          <p:cNvSpPr/>
          <p:nvPr/>
        </p:nvSpPr>
        <p:spPr>
          <a:xfrm>
            <a:off x="1763640" y="3645000"/>
            <a:ext cx="1727280" cy="1368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Oval 44"/>
          <p:cNvSpPr/>
          <p:nvPr/>
        </p:nvSpPr>
        <p:spPr>
          <a:xfrm>
            <a:off x="3349800" y="3860640"/>
            <a:ext cx="1726920" cy="136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Oval 45"/>
          <p:cNvSpPr/>
          <p:nvPr/>
        </p:nvSpPr>
        <p:spPr>
          <a:xfrm>
            <a:off x="4932360" y="3645000"/>
            <a:ext cx="1727280" cy="1368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Oval 46"/>
          <p:cNvSpPr/>
          <p:nvPr/>
        </p:nvSpPr>
        <p:spPr>
          <a:xfrm>
            <a:off x="2556000" y="5878440"/>
            <a:ext cx="1726920" cy="93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Oval 47"/>
          <p:cNvSpPr/>
          <p:nvPr/>
        </p:nvSpPr>
        <p:spPr>
          <a:xfrm>
            <a:off x="4140360" y="5877000"/>
            <a:ext cx="1726920" cy="907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Oval 48"/>
          <p:cNvSpPr/>
          <p:nvPr/>
        </p:nvSpPr>
        <p:spPr>
          <a:xfrm>
            <a:off x="3203640" y="5435640"/>
            <a:ext cx="2160360" cy="87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4" dur="1" fill="hold"/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Agentes no VEPersonal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137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cc"/>
                </a:solidFill>
                <a:latin typeface="Verdana"/>
              </a:rPr>
              <a:t>Sistema multi-age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6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Facilita a </a:t>
            </a:r>
            <a:r>
              <a:rPr b="0" lang="pt-BR" sz="1800" spc="-1" strike="noStrike">
                <a:solidFill>
                  <a:srgbClr val="0000cc"/>
                </a:solidFill>
                <a:latin typeface="Verdana"/>
              </a:rPr>
              <a:t>coorden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e a estruturação das atividad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6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cc"/>
                </a:solidFill>
                <a:latin typeface="Verdana"/>
              </a:rPr>
              <a:t>Distribuição de tarefa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- acompanhamento das ações do usuário e tomada de decisã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roca de mensagens entre agentes e comunicação com a interface é facilitada pelo uso de </a:t>
            </a:r>
            <a:r>
              <a:rPr b="0" lang="pt-BR" sz="2000" spc="-1" strike="noStrike">
                <a:solidFill>
                  <a:srgbClr val="0000cc"/>
                </a:solidFill>
                <a:latin typeface="Verdana"/>
              </a:rPr>
              <a:t>J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emprego de agentes no processo de tomada de decisão permite construir </a:t>
            </a:r>
            <a:r>
              <a:rPr b="0" lang="pt-BR" sz="2000" spc="-1" strike="noStrike">
                <a:solidFill>
                  <a:srgbClr val="0000cc"/>
                </a:solidFill>
                <a:latin typeface="Verdana"/>
              </a:rPr>
              <a:t>sistemas eficientes e dinâm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26" descr="MAS defesa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2216160"/>
          </a:xfrm>
          <a:prstGeom prst="rect">
            <a:avLst/>
          </a:prstGeom>
          <a:ln w="0">
            <a:noFill/>
          </a:ln>
        </p:spPr>
      </p:pic>
      <p:sp>
        <p:nvSpPr>
          <p:cNvPr id="143" name="Oval 27"/>
          <p:cNvSpPr/>
          <p:nvPr/>
        </p:nvSpPr>
        <p:spPr>
          <a:xfrm rot="187200">
            <a:off x="6422760" y="396720"/>
            <a:ext cx="2181240" cy="1160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Agente Gerente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45" name="Text Box 46"/>
          <p:cNvSpPr/>
          <p:nvPr/>
        </p:nvSpPr>
        <p:spPr>
          <a:xfrm>
            <a:off x="1981080" y="5867280"/>
            <a:ext cx="6697800" cy="83124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Responsável pelo processo de gerenciamento das informações e tomada de decisão do AV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47"/>
          <p:cNvSpPr/>
          <p:nvPr/>
        </p:nvSpPr>
        <p:spPr>
          <a:xfrm rot="2254800">
            <a:off x="1294920" y="5714640"/>
            <a:ext cx="719280" cy="36036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99" descr="MAS defesa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2216160"/>
          </a:xfrm>
          <a:prstGeom prst="rect">
            <a:avLst/>
          </a:prstGeom>
          <a:ln w="0">
            <a:noFill/>
          </a:ln>
        </p:spPr>
      </p:pic>
      <p:sp>
        <p:nvSpPr>
          <p:cNvPr id="148" name="Oval 100"/>
          <p:cNvSpPr/>
          <p:nvPr/>
        </p:nvSpPr>
        <p:spPr>
          <a:xfrm>
            <a:off x="7070760" y="358920"/>
            <a:ext cx="792000" cy="57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2172960"/>
            <a:ext cx="8748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onitora as ações do usuário através da interfac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Informa ao usuário sobre as modificações que estão ocorrendo no mun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gente cogni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m função dos objetivos a alcançar (</a:t>
            </a:r>
            <a:r>
              <a:rPr b="0" lang="pt-BR" sz="1800" spc="-1" strike="noStrike">
                <a:solidFill>
                  <a:srgbClr val="0000cc"/>
                </a:solidFill>
                <a:latin typeface="Verdana"/>
              </a:rPr>
              <a:t>acompanhar evolução usuári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labora um plano  (</a:t>
            </a:r>
            <a:r>
              <a:rPr b="0" lang="pt-BR" sz="1800" spc="-1" strike="noStrike">
                <a:solidFill>
                  <a:srgbClr val="0000cc"/>
                </a:solidFill>
                <a:latin typeface="Verdana"/>
              </a:rPr>
              <a:t>alterar AV quando mudar perfil usuári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termina uma seqüência de ações (</a:t>
            </a:r>
            <a:r>
              <a:rPr b="0" lang="pt-BR" sz="1800" spc="-1" strike="noStrike">
                <a:solidFill>
                  <a:srgbClr val="0000cc"/>
                </a:solidFill>
                <a:latin typeface="Verdana"/>
              </a:rPr>
              <a:t>solicitar perfil do usuário ao Agente Pessoal, solicitar ao Agente Ambiente o nome dos objetos do ambiente, solicitar Agente Atualizador o novo ambiente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101"/>
          <p:cNvSpPr/>
          <p:nvPr/>
        </p:nvSpPr>
        <p:spPr>
          <a:xfrm>
            <a:off x="395280" y="1700280"/>
            <a:ext cx="49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ordena todos os agen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Agente Pessoal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0000" y="2276280"/>
            <a:ext cx="8388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etermina o perfil do usuário de acordo com as suas características, preferências e interes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rmazena o perfil no </a:t>
            </a: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Modelo do Usuár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tiliza um sistema de inferência baseado em lógica para calcular o perfil inicial e atualizá-l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gente reativo (acionado por uma demanda do </a:t>
            </a: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Agente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Gerente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45"/>
          <p:cNvSpPr/>
          <p:nvPr/>
        </p:nvSpPr>
        <p:spPr>
          <a:xfrm>
            <a:off x="2133720" y="5791320"/>
            <a:ext cx="6626160" cy="8982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apacidade de determinar o perfil e acompanhar a evolução cognitiva do usuári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AutoShape 46"/>
          <p:cNvSpPr/>
          <p:nvPr/>
        </p:nvSpPr>
        <p:spPr>
          <a:xfrm rot="2652000">
            <a:off x="1371240" y="5714640"/>
            <a:ext cx="719280" cy="36036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8" descr="MAS defesa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2216160"/>
          </a:xfrm>
          <a:prstGeom prst="rect">
            <a:avLst/>
          </a:prstGeom>
          <a:ln w="0">
            <a:noFill/>
          </a:ln>
        </p:spPr>
      </p:pic>
      <p:sp>
        <p:nvSpPr>
          <p:cNvPr id="156" name="Oval 49"/>
          <p:cNvSpPr/>
          <p:nvPr/>
        </p:nvSpPr>
        <p:spPr>
          <a:xfrm>
            <a:off x="6469200" y="874800"/>
            <a:ext cx="792000" cy="57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2cc8"/>
                </a:solidFill>
                <a:latin typeface="Verdana"/>
              </a:rPr>
              <a:t>Modelo do Usuário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9039240" y="5773680"/>
            <a:ext cx="130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23"/>
          <p:cNvSpPr/>
          <p:nvPr/>
        </p:nvSpPr>
        <p:spPr>
          <a:xfrm>
            <a:off x="9050400" y="4749840"/>
            <a:ext cx="1299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800" rIns="738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50"/>
          <p:cNvSpPr/>
          <p:nvPr/>
        </p:nvSpPr>
        <p:spPr>
          <a:xfrm>
            <a:off x="2411280" y="5603760"/>
            <a:ext cx="5977080" cy="119988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través das informações armazenadas no MU o Agente Pessoal pode gerar inferências para atualização do perfi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51"/>
          <p:cNvSpPr/>
          <p:nvPr/>
        </p:nvSpPr>
        <p:spPr>
          <a:xfrm rot="2037000">
            <a:off x="1447920" y="5562720"/>
            <a:ext cx="934920" cy="504720"/>
          </a:xfrm>
          <a:prstGeom prst="rightArrow">
            <a:avLst>
              <a:gd name="adj1" fmla="val 50000"/>
              <a:gd name="adj2" fmla="val 46309"/>
            </a:avLst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55" descr="MAS defesa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2216160"/>
          </a:xfrm>
          <a:prstGeom prst="rect">
            <a:avLst/>
          </a:prstGeom>
          <a:ln w="0">
            <a:noFill/>
          </a:ln>
        </p:spPr>
      </p:pic>
      <p:sp>
        <p:nvSpPr>
          <p:cNvPr id="163" name="Oval 56"/>
          <p:cNvSpPr/>
          <p:nvPr/>
        </p:nvSpPr>
        <p:spPr>
          <a:xfrm>
            <a:off x="6796080" y="1776240"/>
            <a:ext cx="792000" cy="441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2103480"/>
            <a:ext cx="8675640" cy="345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O Modelo do Usuário armazena o cadastro e o perfil do usuár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cuperação das informações do usuá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Gerenciamento do perfil de vários usuá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eterminação do perfi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leta Explícita (formulário no início de uma sessã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leta Implícita (monitoramento do comportamento do usuário durante a interação com o sistem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Definição do Perfil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5330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 atualização do perfil é controlada em função da variação do FC do usuário (-1, +1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alculado inicialmente na coleta explíci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tualizado durante a interação do usuário com o sist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xemplo: aplicação para ensinar Física a alunos do 2º gra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413000" y="4744440"/>
            <a:ext cx="6556320" cy="207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R1: Definição do nível de escolaridade do usuári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Se aluno está no 1º ano do ensino médio entã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Tem nível de escolaridade para executar o experimento com FC = -0,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Se aluno está no 2º ano do ensino médio entã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Tem nível de escolaridade para executar o experimento com FC = 0,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Se aluno está no 3º ano do ensino médio entã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Tem nível de escolaridade para executar o experimento com FC = 0,6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7" descr="MAS defesa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2216160"/>
          </a:xfrm>
          <a:prstGeom prst="rect">
            <a:avLst/>
          </a:prstGeom>
          <a:ln w="0">
            <a:noFill/>
          </a:ln>
        </p:spPr>
      </p:pic>
      <p:sp>
        <p:nvSpPr>
          <p:cNvPr id="169" name="Oval 8"/>
          <p:cNvSpPr/>
          <p:nvPr/>
        </p:nvSpPr>
        <p:spPr>
          <a:xfrm rot="4272600">
            <a:off x="6346800" y="1281600"/>
            <a:ext cx="1344600" cy="600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539640" y="1341360"/>
            <a:ext cx="5472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Regras de inferência associadas a Fatores de Confianç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Definição do Perfil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280160" y="1558080"/>
            <a:ext cx="5159520" cy="125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R4 – Determinação do novo Fator de Confiança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Cuser = FCold + FC (1 - FCold), para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FCold e FC &gt;0)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Cuser = FCold + FC (1 + FCold), para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FCold e FC &lt;0)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FCuser = (FCold + FC) / (1 – min(|FCold|, |FC|)), </a:t>
            </a: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caso contrário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39640" y="3213000"/>
            <a:ext cx="8310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Determinação do </a:t>
            </a:r>
            <a:r>
              <a:rPr b="0" i="1" lang="pt-BR" sz="2200" spc="-1" strike="noStrike">
                <a:solidFill>
                  <a:srgbClr val="0000cc"/>
                </a:solidFill>
                <a:latin typeface="Verdana"/>
              </a:rPr>
              <a:t>perfil do usuário (estereótip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1008000" y="3786480"/>
            <a:ext cx="6877080" cy="258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R5: Definição do </a:t>
            </a:r>
            <a:r>
              <a:rPr b="1" i="1" lang="pt-BR" sz="1200" spc="-1" strike="noStrike">
                <a:solidFill>
                  <a:srgbClr val="000000"/>
                </a:solidFill>
                <a:latin typeface="Verdana"/>
              </a:rPr>
              <a:t>userLevel</a:t>
            </a: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 em função do nível de escolaridade, faixa etária e nível de conheciment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/* Os valores para o enquadramento do usuário em um determinado nível podem ser ajustados em função da aplicação e dos atributos a serem avaliados *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Se FCuser ≤ -0,4 entã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userLevel = “iniciante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Se -0,4 &lt; FCuser ≤ 0,4 entã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userLevel = “intermediario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Se FCuser &gt; 0,4 entã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userLevel = “avançado”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3924360" y="278136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[Nikolopoulos, 1997; Anjaneyulu, 1997]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9" descr="MAS defesa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2216160"/>
          </a:xfrm>
          <a:prstGeom prst="rect">
            <a:avLst/>
          </a:prstGeom>
          <a:ln w="0">
            <a:noFill/>
          </a:ln>
        </p:spPr>
      </p:pic>
      <p:sp>
        <p:nvSpPr>
          <p:cNvPr id="177" name="Oval 11"/>
          <p:cNvSpPr/>
          <p:nvPr/>
        </p:nvSpPr>
        <p:spPr>
          <a:xfrm rot="4272600">
            <a:off x="6346800" y="1281600"/>
            <a:ext cx="1344600" cy="600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Definição do Perfil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5473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Determinação do FC durante a interação do usuár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116000" y="3011040"/>
            <a:ext cx="72644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611280" y="3789360"/>
            <a:ext cx="8310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e o usuário selecionou a questão correta, o FC será FCknow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 se ele respondeu o teste errado será -FCnotKo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sistema utiliza uma das fórmulas da regra R4 para calcular o novo valor de FCuser para um conceit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1042920" y="2276280"/>
            <a:ext cx="7535880" cy="149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R6 – Determinação do FC em função do acerto ou erro do teste T1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Se a resposta do teste T1 está correta entã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Usuário sabe o conteúdo C1 com FCknow =  0,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Caso contrári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Usuário não sabe o conteúdo C1 com FCnotknow =  0,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2098800" y="5299560"/>
            <a:ext cx="4489200" cy="1388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R7 – Atualização do </a:t>
            </a:r>
            <a:r>
              <a:rPr b="1" i="1" lang="pt-BR" sz="1200" spc="-1" strike="noStrike">
                <a:solidFill>
                  <a:srgbClr val="000000"/>
                </a:solidFill>
                <a:latin typeface="Verdana"/>
              </a:rPr>
              <a:t>userLevel</a:t>
            </a: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 do usuári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Se userLevel = “iniciante” e FCuser &gt; -0,4 entã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userLevel = “intermediário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Se userLevel = “intermediário” e FCuser &gt; 0,4 entã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userLevel = “avançado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11" descr="MAS defesa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2216160"/>
          </a:xfrm>
          <a:prstGeom prst="rect">
            <a:avLst/>
          </a:prstGeom>
          <a:ln w="0">
            <a:noFill/>
          </a:ln>
        </p:spPr>
      </p:pic>
      <p:sp>
        <p:nvSpPr>
          <p:cNvPr id="185" name="Oval 13"/>
          <p:cNvSpPr/>
          <p:nvPr/>
        </p:nvSpPr>
        <p:spPr>
          <a:xfrm rot="4272600">
            <a:off x="6346800" y="1281600"/>
            <a:ext cx="1344600" cy="600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Roteiro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303200"/>
            <a:ext cx="831060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otivaçã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Limitações AV atua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Fundamentação: AV Inteligentes e AV Adapt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roblemas em aber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ecnologias utiliza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senvolvimento do Sistema VEPers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rquitetu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gentes no VEPers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odelo do Usuário e Modelo do Ambi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Gerenciamento dos d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Níveis de complexidade dos obje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nterface de Comunicaçã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onclusõ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ontribuiçõ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rabalhos futur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Agente Ambiente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0160" y="2349360"/>
            <a:ext cx="825948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rmazena os ambientes no </a:t>
            </a: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Modelo do Ambi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Fornece as informações sobre o estado atual do ambiente para o </a:t>
            </a: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Agente Ger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antém atualizadas as modificações ocorridas no ambi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gente reativo (acionado por uma demanda do </a:t>
            </a: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Agente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Gerente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46"/>
          <p:cNvSpPr/>
          <p:nvPr/>
        </p:nvSpPr>
        <p:spPr>
          <a:xfrm>
            <a:off x="2340000" y="5695920"/>
            <a:ext cx="5111640" cy="83124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ermite a recuperação do último ambiente visitado pelo usuár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AutoShape 47"/>
          <p:cNvSpPr/>
          <p:nvPr/>
        </p:nvSpPr>
        <p:spPr>
          <a:xfrm rot="2535600">
            <a:off x="1599840" y="5562360"/>
            <a:ext cx="719280" cy="36036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50" descr="MAS defesa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2216160"/>
          </a:xfrm>
          <a:prstGeom prst="rect">
            <a:avLst/>
          </a:prstGeom>
          <a:ln w="0">
            <a:noFill/>
          </a:ln>
        </p:spPr>
      </p:pic>
      <p:sp>
        <p:nvSpPr>
          <p:cNvPr id="191" name="Oval 51"/>
          <p:cNvSpPr/>
          <p:nvPr/>
        </p:nvSpPr>
        <p:spPr>
          <a:xfrm>
            <a:off x="7799400" y="901800"/>
            <a:ext cx="792000" cy="57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2cc8"/>
                </a:solidFill>
                <a:latin typeface="Verdana"/>
              </a:rPr>
              <a:t>Modelo do Ambiente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93" name="Text Box 89"/>
          <p:cNvSpPr/>
          <p:nvPr/>
        </p:nvSpPr>
        <p:spPr>
          <a:xfrm>
            <a:off x="1752480" y="5867280"/>
            <a:ext cx="6510600" cy="76428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xistência do histórico das modificações ocorridas no ambi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AutoShape 90"/>
          <p:cNvSpPr/>
          <p:nvPr/>
        </p:nvSpPr>
        <p:spPr>
          <a:xfrm rot="2386800">
            <a:off x="1142640" y="5409720"/>
            <a:ext cx="576360" cy="433440"/>
          </a:xfrm>
          <a:prstGeom prst="rightArrow">
            <a:avLst>
              <a:gd name="adj1" fmla="val 50000"/>
              <a:gd name="adj2" fmla="val 33243"/>
            </a:avLst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92" descr="MAS defesa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2216160"/>
          </a:xfrm>
          <a:prstGeom prst="rect">
            <a:avLst/>
          </a:prstGeom>
          <a:ln w="0">
            <a:noFill/>
          </a:ln>
        </p:spPr>
      </p:pic>
      <p:sp>
        <p:nvSpPr>
          <p:cNvPr id="196" name="Oval 93"/>
          <p:cNvSpPr/>
          <p:nvPr/>
        </p:nvSpPr>
        <p:spPr>
          <a:xfrm>
            <a:off x="7426440" y="1811160"/>
            <a:ext cx="79200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310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rmazena a estrutura dos ambientes virtuais com a referência dos objetos pertencentes a cada ambi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rmazena o último ambiente visitado pelo usuário, com o respectivo </a:t>
            </a: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user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ermite manter o ambiente atualizado e registrar as alterações ocorrid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ossui estrutura para armazenar e gerenciar diversos ambientes visitados pelos usuári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Agente Atualizador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0920" y="2276640"/>
            <a:ext cx="8310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sponsável por determinar a atualização do mundo virtual do usuá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cupera os objetos do SGBD para serem incluídos no AV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Gera ambiente inicial para o usuário ou atualiza o ambiente que está sendo utiliz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gente reativo (acionado quando o </a:t>
            </a:r>
            <a:r>
              <a:rPr b="0" lang="pt-BR" sz="2000" spc="-1" strike="noStrike">
                <a:solidFill>
                  <a:srgbClr val="0000cc"/>
                </a:solidFill>
                <a:latin typeface="Verdana"/>
              </a:rPr>
              <a:t>Agente Gerent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necessita gerar um ambiente para o usuário ou atualizar o já existent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AutoShape 47"/>
          <p:cNvSpPr/>
          <p:nvPr/>
        </p:nvSpPr>
        <p:spPr>
          <a:xfrm rot="2358600">
            <a:off x="1447560" y="5257800"/>
            <a:ext cx="718920" cy="3603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50"/>
          <p:cNvSpPr/>
          <p:nvPr/>
        </p:nvSpPr>
        <p:spPr>
          <a:xfrm>
            <a:off x="2197080" y="5415120"/>
            <a:ext cx="6335640" cy="119988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Recupera os objetos do SGBD e extrai os níveis de complexidade de cada objeto em função do perfil do usuár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51" descr="MAS defesa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2216160"/>
          </a:xfrm>
          <a:prstGeom prst="rect">
            <a:avLst/>
          </a:prstGeom>
          <a:ln w="0">
            <a:noFill/>
          </a:ln>
        </p:spPr>
      </p:pic>
      <p:sp>
        <p:nvSpPr>
          <p:cNvPr id="203" name="Oval 52"/>
          <p:cNvSpPr/>
          <p:nvPr/>
        </p:nvSpPr>
        <p:spPr>
          <a:xfrm>
            <a:off x="7093080" y="981000"/>
            <a:ext cx="792000" cy="57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Ontologia dos Agentes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280" y="2166480"/>
            <a:ext cx="8604360" cy="8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pecifica o tipo da informação trocada entre os age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specifica os conceitos do domínio que eles manipul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5" descr="Fig 5"/>
          <p:cNvPicPr/>
          <p:nvPr/>
        </p:nvPicPr>
        <p:blipFill>
          <a:blip r:embed="rId1"/>
          <a:stretch/>
        </p:blipFill>
        <p:spPr>
          <a:xfrm>
            <a:off x="1476360" y="2924280"/>
            <a:ext cx="6624720" cy="3960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MAS defesa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2048040"/>
          </a:xfrm>
          <a:prstGeom prst="rect">
            <a:avLst/>
          </a:prstGeom>
          <a:ln w="0">
            <a:noFill/>
          </a:ln>
        </p:spPr>
      </p:pic>
      <p:sp>
        <p:nvSpPr>
          <p:cNvPr id="208" name="Oval 8"/>
          <p:cNvSpPr/>
          <p:nvPr/>
        </p:nvSpPr>
        <p:spPr>
          <a:xfrm rot="187200">
            <a:off x="6580080" y="399960"/>
            <a:ext cx="2028960" cy="946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324000" y="1328760"/>
            <a:ext cx="576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Ontologia para gerenciamento de AV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xemplo: Experimentos em Fís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Atuação dos Agentes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460836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mportamento dos age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5" descr="Diagrama Sequência Solicitação Novo Ambiente"/>
          <p:cNvPicPr/>
          <p:nvPr/>
        </p:nvPicPr>
        <p:blipFill>
          <a:blip r:embed="rId1"/>
          <a:stretch/>
        </p:blipFill>
        <p:spPr>
          <a:xfrm>
            <a:off x="1914480" y="1954080"/>
            <a:ext cx="6300720" cy="490392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7"/>
          <p:cNvSpPr/>
          <p:nvPr/>
        </p:nvSpPr>
        <p:spPr>
          <a:xfrm rot="16200000">
            <a:off x="-608400" y="4289040"/>
            <a:ext cx="4248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olicitação de um Novo Ambi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8" descr="MAS defesa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1824120"/>
          </a:xfrm>
          <a:prstGeom prst="rect">
            <a:avLst/>
          </a:prstGeom>
          <a:ln w="0">
            <a:noFill/>
          </a:ln>
        </p:spPr>
      </p:pic>
      <p:sp>
        <p:nvSpPr>
          <p:cNvPr id="215" name="Oval 9"/>
          <p:cNvSpPr/>
          <p:nvPr/>
        </p:nvSpPr>
        <p:spPr>
          <a:xfrm rot="187200">
            <a:off x="7020000" y="369360"/>
            <a:ext cx="1596960" cy="946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Gerenciamento de Dados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82120" y="1483920"/>
            <a:ext cx="8310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ostgreSQL com suporte a 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rmazena os objetos 3D do mundo virtual que estão estruturados em formato X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rmazena o cadastro do usuário e estado atual do ambiente (dados relaciona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ção entre a estrutura relacional e a de XML tornou possível o gerenciamento de AV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195640" y="5445000"/>
            <a:ext cx="5400720" cy="119988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O sistema pode recuperar apenas os objetos necessários à aplicação e que atendam ao perfil do usuár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AutoShape 5"/>
          <p:cNvSpPr/>
          <p:nvPr/>
        </p:nvSpPr>
        <p:spPr>
          <a:xfrm rot="2910000">
            <a:off x="1832760" y="4948920"/>
            <a:ext cx="576000" cy="431640"/>
          </a:xfrm>
          <a:prstGeom prst="rightArrow">
            <a:avLst>
              <a:gd name="adj1" fmla="val 50000"/>
              <a:gd name="adj2" fmla="val 3336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6" descr="MAS defesa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1824120"/>
          </a:xfrm>
          <a:prstGeom prst="rect">
            <a:avLst/>
          </a:prstGeom>
          <a:ln w="0">
            <a:noFill/>
          </a:ln>
        </p:spPr>
      </p:pic>
      <p:sp>
        <p:nvSpPr>
          <p:cNvPr id="221" name="Oval 7"/>
          <p:cNvSpPr/>
          <p:nvPr/>
        </p:nvSpPr>
        <p:spPr>
          <a:xfrm>
            <a:off x="7058160" y="1162080"/>
            <a:ext cx="1457280" cy="801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Verdana"/>
              </a:rPr>
              <a:t>Níveis de Complexidade dos Objetos</a:t>
            </a: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6043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linguagem X3D facilita a manipulação e armazenamento de obje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serção de um atributo </a:t>
            </a:r>
            <a:r>
              <a:rPr b="0" i="1" lang="pt-BR" sz="2000" spc="-1" strike="noStrike">
                <a:solidFill>
                  <a:srgbClr val="0000cc"/>
                </a:solidFill>
                <a:latin typeface="Verdana"/>
              </a:rPr>
              <a:t>userLevel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no código X3D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4" descr="Fig 4"/>
          <p:cNvPicPr/>
          <p:nvPr/>
        </p:nvPicPr>
        <p:blipFill>
          <a:blip r:embed="rId1"/>
          <a:stretch/>
        </p:blipFill>
        <p:spPr>
          <a:xfrm>
            <a:off x="6000840" y="2933640"/>
            <a:ext cx="2747880" cy="17096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 rot="16200000">
            <a:off x="8025120" y="363492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Usuário Perfil </a:t>
            </a:r>
            <a:r>
              <a:rPr b="0" lang="pt-BR" sz="1400" spc="-1" strike="noStrike">
                <a:solidFill>
                  <a:srgbClr val="0000cc"/>
                </a:solidFill>
                <a:latin typeface="Verdana"/>
              </a:rPr>
              <a:t>B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6"/>
          <p:cNvSpPr/>
          <p:nvPr/>
        </p:nvSpPr>
        <p:spPr>
          <a:xfrm rot="16200000">
            <a:off x="8017200" y="556992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Usuário Perfil </a:t>
            </a:r>
            <a:r>
              <a:rPr b="0" lang="pt-BR" sz="1400" spc="-1" strike="noStrike">
                <a:solidFill>
                  <a:srgbClr val="0000cc"/>
                </a:solidFill>
                <a:latin typeface="Verdana"/>
              </a:rPr>
              <a:t>B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7" descr="Fig 4"/>
          <p:cNvPicPr/>
          <p:nvPr/>
        </p:nvPicPr>
        <p:blipFill>
          <a:blip r:embed="rId2"/>
          <a:stretch/>
        </p:blipFill>
        <p:spPr>
          <a:xfrm>
            <a:off x="5987880" y="4886280"/>
            <a:ext cx="2760840" cy="16988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8"/>
          <p:cNvSpPr/>
          <p:nvPr/>
        </p:nvSpPr>
        <p:spPr>
          <a:xfrm>
            <a:off x="684360" y="2851560"/>
            <a:ext cx="5111640" cy="382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800280"/>
                <a:tab algn="l" pos="102888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Transform DEF=”Quadro”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800280"/>
                <a:tab algn="l" pos="102888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Shape DEF=”BordaQuadro” ..../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800280"/>
                <a:tab algn="l" pos="102888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Shape DEF=”Mapa”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800280"/>
                <a:tab algn="l" pos="102888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Appearanc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800280"/>
                <a:tab algn="l" pos="102888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Material diffuseColor="0 0 0"/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571680"/>
                <a:tab algn="l" pos="800280"/>
                <a:tab algn="l" pos="102888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pt-BR" sz="1200" spc="-1" strike="noStrike">
                <a:solidFill>
                  <a:srgbClr val="0000cc"/>
                </a:solidFill>
                <a:latin typeface="Verdana"/>
              </a:rPr>
              <a:t>&lt;userLevel DEF="B1"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800280"/>
                <a:tab algn="l" pos="102888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ImageTexture url="mapaMundi_topografico.jpg“/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800280"/>
                <a:tab algn="l" pos="102888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pt-BR" sz="1200" spc="-1" strike="noStrike">
                <a:solidFill>
                  <a:srgbClr val="0000cc"/>
                </a:solidFill>
                <a:latin typeface="Verdana"/>
              </a:rPr>
              <a:t>&lt;/userLevel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571680"/>
                <a:tab algn="l" pos="800280"/>
                <a:tab algn="l" pos="102888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cc"/>
                </a:solidFill>
                <a:latin typeface="Verdana"/>
              </a:rPr>
              <a:t>              </a:t>
            </a:r>
            <a:r>
              <a:rPr b="1" lang="pt-BR" sz="1200" spc="-1" strike="noStrike">
                <a:solidFill>
                  <a:srgbClr val="0000cc"/>
                </a:solidFill>
                <a:latin typeface="Verdana"/>
              </a:rPr>
              <a:t>&lt;userLevel DEF=“B2"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800280"/>
                <a:tab algn="l" pos="102888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ImageTexture url="mapaMundi_politico.jpg"/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800280"/>
                <a:tab algn="l" pos="102888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pt-BR" sz="1200" spc="-1" strike="noStrike">
                <a:solidFill>
                  <a:srgbClr val="0000cc"/>
                </a:solidFill>
                <a:latin typeface="Verdana"/>
              </a:rPr>
              <a:t>&lt;/userLevel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800280"/>
                <a:tab algn="l" pos="102888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Appearanc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800280"/>
                <a:tab algn="l" pos="102888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&lt;/Shap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800280"/>
                <a:tab algn="l" pos="102888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/Transform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Line 9"/>
          <p:cNvSpPr/>
          <p:nvPr/>
        </p:nvSpPr>
        <p:spPr>
          <a:xfrm>
            <a:off x="3708360" y="5229360"/>
            <a:ext cx="2448000" cy="14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1166760" y="5060880"/>
            <a:ext cx="2519280" cy="358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Line 11"/>
          <p:cNvSpPr/>
          <p:nvPr/>
        </p:nvSpPr>
        <p:spPr>
          <a:xfrm flipV="1">
            <a:off x="3780000" y="3645000"/>
            <a:ext cx="2376360" cy="72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Oval 12"/>
          <p:cNvSpPr/>
          <p:nvPr/>
        </p:nvSpPr>
        <p:spPr>
          <a:xfrm>
            <a:off x="1258920" y="4197240"/>
            <a:ext cx="2519280" cy="358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1014480" y="3390840"/>
            <a:ext cx="4674960" cy="2978280"/>
          </a:xfrm>
          <a:prstGeom prst="rect">
            <a:avLst/>
          </a:pr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5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500"/>
                            </p:stCondLst>
                            <p:childTnLst>
                              <p:par>
                                <p:cTn id="903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500"/>
                            </p:stCondLst>
                            <p:childTnLst>
                              <p:par>
                                <p:cTn id="9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3000"/>
                            </p:stCondLst>
                            <p:childTnLst>
                              <p:par>
                                <p:cTn id="9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3500"/>
                            </p:stCondLst>
                            <p:childTnLst>
                              <p:par>
                                <p:cTn id="9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000"/>
                            </p:stCondLst>
                            <p:childTnLst>
                              <p:par>
                                <p:cTn id="9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Verdana"/>
              </a:rPr>
              <a:t>Modelo Conceitual do BD</a:t>
            </a: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pic>
        <p:nvPicPr>
          <p:cNvPr id="235" name="Picture 3" descr="Fig 4"/>
          <p:cNvPicPr/>
          <p:nvPr/>
        </p:nvPicPr>
        <p:blipFill>
          <a:blip r:embed="rId1"/>
          <a:stretch/>
        </p:blipFill>
        <p:spPr>
          <a:xfrm>
            <a:off x="250920" y="1074600"/>
            <a:ext cx="8772480" cy="55785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4"/>
          <p:cNvSpPr/>
          <p:nvPr/>
        </p:nvSpPr>
        <p:spPr>
          <a:xfrm>
            <a:off x="4932360" y="5475240"/>
            <a:ext cx="4032360" cy="126684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s objetos são armazenados individualmente no SGB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ossibilidade de criação de novos ambient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Modelo Lógico do BD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pic>
        <p:nvPicPr>
          <p:cNvPr id="238" name="Picture 4" descr="Modelo Conceitual3 VFinal2"/>
          <p:cNvPicPr/>
          <p:nvPr/>
        </p:nvPicPr>
        <p:blipFill>
          <a:blip r:embed="rId1"/>
          <a:stretch/>
        </p:blipFill>
        <p:spPr>
          <a:xfrm>
            <a:off x="885960" y="1413000"/>
            <a:ext cx="7372080" cy="5238720"/>
          </a:xfrm>
          <a:prstGeom prst="rect">
            <a:avLst/>
          </a:prstGeom>
          <a:ln w="0">
            <a:noFill/>
          </a:ln>
        </p:spPr>
      </p:pic>
      <p:sp>
        <p:nvSpPr>
          <p:cNvPr id="239" name="Oval 5"/>
          <p:cNvSpPr/>
          <p:nvPr/>
        </p:nvSpPr>
        <p:spPr>
          <a:xfrm>
            <a:off x="735120" y="3141720"/>
            <a:ext cx="3166920" cy="3240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Oval 6"/>
          <p:cNvSpPr/>
          <p:nvPr/>
        </p:nvSpPr>
        <p:spPr>
          <a:xfrm rot="1561800">
            <a:off x="1356840" y="1700280"/>
            <a:ext cx="7786800" cy="2787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Oval 7"/>
          <p:cNvSpPr/>
          <p:nvPr/>
        </p:nvSpPr>
        <p:spPr>
          <a:xfrm>
            <a:off x="4140360" y="5256360"/>
            <a:ext cx="2808000" cy="1628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1258920" y="6381720"/>
            <a:ext cx="2160720" cy="243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Agente Pesso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6227640" y="1916280"/>
            <a:ext cx="2376720" cy="337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Agente Ambien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6551640" y="6392880"/>
            <a:ext cx="2484360" cy="337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Agente Atualizad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Interface Cliente/Servidor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0920" y="1437840"/>
            <a:ext cx="8310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Realiza o gerenciamento de uma </a:t>
            </a: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aplicação remota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sem perda de desempenho e de informaçã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á suporte ao processamento e transferência de grande quantidade de dados durante a atualização de Ambientes Virtua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Aplicação Cli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dentifica as ações do usuário executadas no browser e envia para os agentes no servid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Recebe o mundo virtual a ser carregado ou os objetos a serem inseridos/excluídos no A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Aplicação Servid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Recebe as ações do usuár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s agentes determinam quais atividades executa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nvia as atualizações do AV para a máquina do cli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Motivação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29080" y="5300280"/>
            <a:ext cx="5975280" cy="12495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V mais voltados para o usuário, realizando o acompanhamento de suas ações e a adaptação do amb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1028"/>
          <p:cNvSpPr/>
          <p:nvPr/>
        </p:nvSpPr>
        <p:spPr>
          <a:xfrm>
            <a:off x="684360" y="2060640"/>
            <a:ext cx="7921440" cy="21045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07932" dir="81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oder modelar um Ambiente Virtual (AV) capaz de incluir </a:t>
            </a: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dinamicamente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novas informações ao mundo virtual, propiciando  um ambiente com maior riqueza de detalhes e gerando adaptação de acordo com o </a:t>
            </a: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perfil do usuário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e sua </a:t>
            </a: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evolução cognitiv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AutoShape 1034"/>
          <p:cNvSpPr/>
          <p:nvPr/>
        </p:nvSpPr>
        <p:spPr>
          <a:xfrm rot="2988000">
            <a:off x="4543920" y="4447080"/>
            <a:ext cx="865440" cy="505080"/>
          </a:xfrm>
          <a:prstGeom prst="rightArrow">
            <a:avLst>
              <a:gd name="adj1" fmla="val 50000"/>
              <a:gd name="adj2" fmla="val 4283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Interface Cliente/Servidor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pic>
        <p:nvPicPr>
          <p:cNvPr id="248" name="Picture 4" descr="Fig 5"/>
          <p:cNvPicPr/>
          <p:nvPr/>
        </p:nvPicPr>
        <p:blipFill>
          <a:blip r:embed="rId1"/>
          <a:stretch/>
        </p:blipFill>
        <p:spPr>
          <a:xfrm>
            <a:off x="1835280" y="1449360"/>
            <a:ext cx="6049800" cy="5338800"/>
          </a:xfrm>
          <a:prstGeom prst="rect">
            <a:avLst/>
          </a:prstGeom>
          <a:ln w="0">
            <a:noFill/>
          </a:ln>
        </p:spPr>
      </p:pic>
      <p:sp>
        <p:nvSpPr>
          <p:cNvPr id="249" name="Oval 7"/>
          <p:cNvSpPr/>
          <p:nvPr/>
        </p:nvSpPr>
        <p:spPr>
          <a:xfrm>
            <a:off x="5600880" y="5229360"/>
            <a:ext cx="576000" cy="1628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6084720" y="5373720"/>
            <a:ext cx="1366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6877080" y="3860640"/>
            <a:ext cx="2266920" cy="11595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LISTENER – propaga para o servidor as mudanças e atualizações ocorridas no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4140360" y="4149720"/>
            <a:ext cx="1223640" cy="36828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LipeRM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Oval 11"/>
          <p:cNvSpPr/>
          <p:nvPr/>
        </p:nvSpPr>
        <p:spPr>
          <a:xfrm>
            <a:off x="4427640" y="1989000"/>
            <a:ext cx="360360" cy="93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788000" y="1773000"/>
            <a:ext cx="1512720" cy="43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Oval 13"/>
          <p:cNvSpPr/>
          <p:nvPr/>
        </p:nvSpPr>
        <p:spPr>
          <a:xfrm>
            <a:off x="3203640" y="3294000"/>
            <a:ext cx="30240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Line 14"/>
          <p:cNvSpPr/>
          <p:nvPr/>
        </p:nvSpPr>
        <p:spPr>
          <a:xfrm flipH="1" flipV="1">
            <a:off x="2398320" y="3293640"/>
            <a:ext cx="792360" cy="206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6227640" y="1557360"/>
            <a:ext cx="2303640" cy="7333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Função LOAD – carrega automaticamente as bibliotec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Oval 16"/>
          <p:cNvSpPr/>
          <p:nvPr/>
        </p:nvSpPr>
        <p:spPr>
          <a:xfrm>
            <a:off x="5867280" y="3665520"/>
            <a:ext cx="576360" cy="148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Line 17"/>
          <p:cNvSpPr/>
          <p:nvPr/>
        </p:nvSpPr>
        <p:spPr>
          <a:xfrm>
            <a:off x="6445080" y="4292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Oval 18"/>
          <p:cNvSpPr/>
          <p:nvPr/>
        </p:nvSpPr>
        <p:spPr>
          <a:xfrm>
            <a:off x="4008600" y="4030560"/>
            <a:ext cx="143964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19"/>
          <p:cNvSpPr/>
          <p:nvPr/>
        </p:nvSpPr>
        <p:spPr>
          <a:xfrm flipH="1">
            <a:off x="2830320" y="4317840"/>
            <a:ext cx="1152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1103400" y="3860640"/>
            <a:ext cx="1727280" cy="7333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Mantém conexão ativa durante toda a sessã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21"/>
          <p:cNvSpPr/>
          <p:nvPr/>
        </p:nvSpPr>
        <p:spPr>
          <a:xfrm>
            <a:off x="569880" y="1747800"/>
            <a:ext cx="1727280" cy="158580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Cliente apenas chama um método da classe Fachada que se encarrega de executar o process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Oval 22"/>
          <p:cNvSpPr/>
          <p:nvPr/>
        </p:nvSpPr>
        <p:spPr>
          <a:xfrm>
            <a:off x="2411280" y="2997360"/>
            <a:ext cx="5040360" cy="2519280"/>
          </a:xfrm>
          <a:prstGeom prst="ellips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23"/>
          <p:cNvSpPr/>
          <p:nvPr/>
        </p:nvSpPr>
        <p:spPr>
          <a:xfrm>
            <a:off x="2508120" y="907920"/>
            <a:ext cx="4753080" cy="64260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lta coesão e baixo acoplamento devido aos padrões de projeto utiliz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AutoShape 24"/>
          <p:cNvSpPr/>
          <p:nvPr/>
        </p:nvSpPr>
        <p:spPr>
          <a:xfrm rot="16200000">
            <a:off x="4391640" y="2167560"/>
            <a:ext cx="1008000" cy="505080"/>
          </a:xfrm>
          <a:prstGeom prst="pie">
            <a:avLst/>
          </a:prstGeom>
          <a:solidFill>
            <a:srgbClr val="0000cc">
              <a:alpha val="71000"/>
            </a:srgbClr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Oval 25"/>
          <p:cNvSpPr/>
          <p:nvPr/>
        </p:nvSpPr>
        <p:spPr>
          <a:xfrm>
            <a:off x="2700360" y="5084640"/>
            <a:ext cx="302400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7451640" y="4508640"/>
            <a:ext cx="1692360" cy="17899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Encapsula o acesso ao Banco de Dado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Independência das regras de negócio dos agente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Text Box 27"/>
          <p:cNvSpPr/>
          <p:nvPr/>
        </p:nvSpPr>
        <p:spPr>
          <a:xfrm>
            <a:off x="468360" y="4724280"/>
            <a:ext cx="1584360" cy="94644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Especifica os padrões de comunicação com a Interf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28"/>
          <p:cNvSpPr/>
          <p:nvPr/>
        </p:nvSpPr>
        <p:spPr>
          <a:xfrm flipH="1">
            <a:off x="2098800" y="5338800"/>
            <a:ext cx="57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500"/>
                            </p:stCondLst>
                            <p:childTnLst>
                              <p:par>
                                <p:cTn id="10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500"/>
                            </p:stCondLst>
                            <p:childTnLst>
                              <p:par>
                                <p:cTn id="10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solidFill>
            <a:srgbClr val="6cd8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Ambiente de Estudo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3106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xperimentos de Físic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4" descr="Fig 5"/>
          <p:cNvPicPr/>
          <p:nvPr/>
        </p:nvPicPr>
        <p:blipFill>
          <a:blip r:embed="rId1"/>
          <a:stretch/>
        </p:blipFill>
        <p:spPr>
          <a:xfrm>
            <a:off x="6443640" y="1413000"/>
            <a:ext cx="2540160" cy="2808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Fig 5"/>
          <p:cNvPicPr/>
          <p:nvPr/>
        </p:nvPicPr>
        <p:blipFill>
          <a:blip r:embed="rId2"/>
          <a:stretch/>
        </p:blipFill>
        <p:spPr>
          <a:xfrm>
            <a:off x="684360" y="1989000"/>
            <a:ext cx="3924000" cy="27766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Fig 5"/>
          <p:cNvPicPr/>
          <p:nvPr/>
        </p:nvPicPr>
        <p:blipFill>
          <a:blip r:embed="rId3"/>
          <a:stretch/>
        </p:blipFill>
        <p:spPr>
          <a:xfrm>
            <a:off x="4211640" y="4149720"/>
            <a:ext cx="323388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Verdana"/>
              </a:rPr>
              <a:t>Avaliação do Desempenho do VEPersonal</a:t>
            </a: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310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3 ambientes: 2 experimentos de Física + Hall de entr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cc"/>
                </a:solidFill>
                <a:latin typeface="Verdana"/>
              </a:rPr>
              <a:t>Testes realizados em uma rede loc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ervidor – PC processador Atlhon XP de 2.4 Ghz e 512 M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liente – Notebook HP Pavillon ZE2000 com processador Intel Celeron M de 1.4 Ghz e 1Gb de memór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cc"/>
                </a:solidFill>
                <a:latin typeface="Verdana"/>
              </a:rPr>
              <a:t>Critérios utilizad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- Tempo de resposta do sistema par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arregar um novo ambi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arregar um ambiente já visit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tualizar um ambiente devido à mudança de perf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cc"/>
                </a:solidFill>
                <a:latin typeface="Verdana"/>
              </a:rPr>
              <a:t>Tempo médio de respost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ver tabe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interface realizou a comunicação com o servidor de modo satisfatório, indicando que os </a:t>
            </a:r>
            <a:r>
              <a:rPr b="0" lang="pt-BR" sz="2000" spc="-1" strike="noStrike">
                <a:solidFill>
                  <a:srgbClr val="0000cc"/>
                </a:solidFill>
                <a:latin typeface="Verdana"/>
              </a:rPr>
              <a:t>serviços foram executados em um tempo aceitá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s testes realizados atenderam às expectativas projetadas para o VEPersonal (atualizar os ambientes em tempo re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598320" y="1407960"/>
          <a:ext cx="8310600" cy="5430960"/>
        </p:xfrm>
        <a:graphic>
          <a:graphicData uri="http://schemas.openxmlformats.org/drawingml/2006/table">
            <a:tbl>
              <a:tblPr/>
              <a:tblGrid>
                <a:gridCol w="1592280"/>
                <a:gridCol w="1594080"/>
                <a:gridCol w="1657440"/>
                <a:gridCol w="1809720"/>
                <a:gridCol w="1657080"/>
              </a:tblGrid>
              <a:tr h="24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uá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me do Amb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o Gasto para Carregar Ambiente (m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o Amb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biente Visitado Anteriorm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biente com mudança de perf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c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 Entr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c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da Liv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c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êndu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r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 Entr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r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da Liv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r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êndu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 Entr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da Liv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êndu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el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 Entr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el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da Liv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el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êndu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dri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 Entr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dri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da Liv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dri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êndu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jio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 Entr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jio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da Liv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jio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êndu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o Mé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9,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1,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2,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Verdana"/>
              </a:rPr>
              <a:t>Tempo de resposta na atualização do ambiente</a:t>
            </a: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80" name="Oval 681"/>
          <p:cNvSpPr/>
          <p:nvPr/>
        </p:nvSpPr>
        <p:spPr>
          <a:xfrm>
            <a:off x="3962520" y="6553080"/>
            <a:ext cx="106668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Oval 683"/>
          <p:cNvSpPr/>
          <p:nvPr/>
        </p:nvSpPr>
        <p:spPr>
          <a:xfrm>
            <a:off x="5715000" y="6553080"/>
            <a:ext cx="106668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Oval 684"/>
          <p:cNvSpPr/>
          <p:nvPr/>
        </p:nvSpPr>
        <p:spPr>
          <a:xfrm>
            <a:off x="7543800" y="6553080"/>
            <a:ext cx="106668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Conclusões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3102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Neste trabalho foi especificada, implementada e validada uma</a:t>
            </a: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 infra-estrutura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para gerenciamento de componentes de AV adaptativos em tempo re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sta técnica é importante, principalmente, para </a:t>
            </a: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ambientes de ensino e de simulação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em que existe um processo de aprendizagem durante a intera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5"/>
          <p:cNvSpPr/>
          <p:nvPr/>
        </p:nvSpPr>
        <p:spPr>
          <a:xfrm rot="5363400">
            <a:off x="4240440" y="4674240"/>
            <a:ext cx="565200" cy="360360"/>
          </a:xfrm>
          <a:prstGeom prst="rightArrow">
            <a:avLst>
              <a:gd name="adj1" fmla="val 50000"/>
              <a:gd name="adj2" fmla="val 39211"/>
            </a:avLst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1332000" y="5275440"/>
            <a:ext cx="7632720" cy="13003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 técnicas de adaptatividade propostas podem aumentar a motivação e a interatividade do usuário, e contribuir para a evolução do seu aprendiza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Contribuições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310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Detalhamento do conteúdo dos objetos em AV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Geração de uma estrutura com níveis de detalhes em cada objeto (</a:t>
            </a:r>
            <a:r>
              <a:rPr b="0" i="1" lang="pt-BR" sz="1800" spc="-1" strike="noStrike">
                <a:solidFill>
                  <a:srgbClr val="0000cc"/>
                </a:solidFill>
                <a:latin typeface="Verdana"/>
              </a:rPr>
              <a:t>userLevel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Permite gerar um ambiente diferente para cada usuár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não precisa gerar um novo modelo do ambi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basta apenas extrair os conteúdos que coincidem com o perfil do usuár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Reuso de Objetos na construção de AV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ndexação de objetos armazenados em um SGBD viabilizou a reutilização dos objetos na geração de novos ambien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strutura de armazenamento possibilita a recuperação das informações com eficiência e rapide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Contribuições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532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24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cc"/>
                </a:solidFill>
                <a:latin typeface="Verdana"/>
              </a:rPr>
              <a:t>Adaptatividade em tempo re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interface desenvolvida permite inserção e remoção de objetos no AV, sem necessidade de carregar todo o ambiente novam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gilidade no processo de tomada de decisão para determinar os objetos a serem inseridos no AV e atualizar o perfil do usuár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Verdana"/>
              </a:rPr>
              <a:t>Gerenciamento do perfil do usuário e das atualizações do A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valiação do aprendizado do usuário utilizando um método de inferência associado a Fatores de Confianç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Utilização do Modelo do Usuário permite eficiência na identificação dos perfis e garante a persistência dos d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Utilização do Modelo do Ambiente permite recuperar o último ambiente visitado com todas as modificações ocorridas e com os níveis de detalhes apresent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Trabalhos Futuros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310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Gerenciamento do acesso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simultâneo de vários usuários ao VEPersonal, bem como o acompanhamento das suas açõ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tilização de </a:t>
            </a: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técnicas de Aprendizagem de Máquina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, principalmente a abordagem colaborativa, para a modelagem do usuár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Mudança do </a:t>
            </a: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mecanismo de coordenação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da estrutura mestre/escravo para o de mercado, com o objetivo de aumentar a autonomia de atuação dos agen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tilização de um </a:t>
            </a:r>
            <a:r>
              <a:rPr b="0" i="1" lang="pt-BR" sz="2200" spc="-1" strike="noStrike">
                <a:solidFill>
                  <a:srgbClr val="0000cc"/>
                </a:solidFill>
                <a:latin typeface="Verdana"/>
              </a:rPr>
              <a:t>chatterbot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para responder às perguntas do usuário, possibilitando o esclarecimento de dúvidas e solicitação de serviç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Trabalhos Futuros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310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so de uma </a:t>
            </a: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ontologia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para descrever um conjunto de metadados dos objetos, sendo utilizada para especificar as entidades existentes na representação dos AV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tilização de um </a:t>
            </a: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SGBD com suporte a XQuery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ara agilizar a recuperação dos níveis de complexidade dos objeto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Utilização do VEPersonal para dar suporte a </a:t>
            </a: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outras aplicações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como por exemplo, jogos educativos ou ambientes de simula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esenvolvimento de </a:t>
            </a: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ferramentas de autoria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para o VEPersonal com o objetivo de gerar os ambientes virtuais e armazená-los no SGB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Trabalhos Futuros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310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Explorar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o VEPersonal para gerar e gerenciar AVE específicos, como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mbientes de simulação para treinam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mbientes para Jog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Motivação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pic>
        <p:nvPicPr>
          <p:cNvPr id="55" name="Picture 5" descr="room_nobook"/>
          <p:cNvPicPr/>
          <p:nvPr/>
        </p:nvPicPr>
        <p:blipFill>
          <a:blip r:embed="rId1"/>
          <a:stretch/>
        </p:blipFill>
        <p:spPr>
          <a:xfrm>
            <a:off x="1116000" y="1476360"/>
            <a:ext cx="3059280" cy="2089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room2a"/>
          <p:cNvPicPr/>
          <p:nvPr/>
        </p:nvPicPr>
        <p:blipFill>
          <a:blip r:embed="rId2"/>
          <a:stretch/>
        </p:blipFill>
        <p:spPr>
          <a:xfrm>
            <a:off x="1160640" y="3852720"/>
            <a:ext cx="2943000" cy="19828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1079640" y="59421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suário </a:t>
            </a:r>
            <a:r>
              <a:rPr b="1" i="1" lang="pt-BR" sz="1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tem acesso a um número reduzido de informaçõ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8" descr="room_book"/>
          <p:cNvPicPr/>
          <p:nvPr/>
        </p:nvPicPr>
        <p:blipFill>
          <a:blip r:embed="rId3"/>
          <a:stretch/>
        </p:blipFill>
        <p:spPr>
          <a:xfrm>
            <a:off x="5156280" y="1501920"/>
            <a:ext cx="2952720" cy="2089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room2b"/>
          <p:cNvPicPr/>
          <p:nvPr/>
        </p:nvPicPr>
        <p:blipFill>
          <a:blip r:embed="rId4"/>
          <a:stretch/>
        </p:blipFill>
        <p:spPr>
          <a:xfrm>
            <a:off x="5183280" y="3951360"/>
            <a:ext cx="2925720" cy="1974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"/>
          <p:cNvSpPr/>
          <p:nvPr/>
        </p:nvSpPr>
        <p:spPr>
          <a:xfrm>
            <a:off x="5084640" y="6039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suário </a:t>
            </a:r>
            <a:r>
              <a:rPr b="1" i="1" lang="pt-BR" sz="1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ode consultar o livro e ligar a televisã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Fundamentação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53272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Utilizam técnicas de I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A contribui para aumentar a interatividade do ambiente através da inserção de objetos dinâmicos, representações virtuais de formas de vida e de avata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Deficiências existentes nos AV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considera o nível de conhecimento do usuário, nem o grau de dificuldade do conteúd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existe adaptação em função das preferências do usuá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utiliza o perfil do usuário para auxilio na inter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258920" y="1484280"/>
            <a:ext cx="6626160" cy="4597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Verdana"/>
              </a:rPr>
              <a:t>Ambientes Virtuais Intelige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55480" y="1341360"/>
          <a:ext cx="8480520" cy="5489640"/>
        </p:xfrm>
        <a:graphic>
          <a:graphicData uri="http://schemas.openxmlformats.org/drawingml/2006/table">
            <a:tbl>
              <a:tblPr/>
              <a:tblGrid>
                <a:gridCol w="1231920"/>
                <a:gridCol w="1247760"/>
                <a:gridCol w="698760"/>
                <a:gridCol w="1277640"/>
                <a:gridCol w="1505160"/>
                <a:gridCol w="863640"/>
                <a:gridCol w="887400"/>
                <a:gridCol w="768240"/>
              </a:tblGrid>
              <a:tr h="81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isi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Amb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ça de Avat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Uso de Ag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ação Agente/ Usuá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Perfil Usuá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daptável </a:t>
                      </a:r>
                      <a:r>
                        <a:rPr b="1" lang="pt-BR" sz="11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(Ambient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nologia uti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son et al. (199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gnóstico cognitivo, 3D, dinâm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Representação gráfica, ú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ção de tarefas a realizar no amb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N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N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R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nayiotopoulos et al. (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etenimento, 3D/2D, está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Representação gráfica, ú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ulta em LN, auxílio a naveg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N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N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R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holt e Hulstijn (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etenimento, 3D, está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Repres. gráfica, conhec. do ambiente, ú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álogo em LN, auxílio naveg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N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N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R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stassakis et al. (200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érico, 3D/2D, está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Repres. gráfica, reativo, cognitivo, vá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ulta em L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N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N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RML, OpenG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zzo et al. (200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gnóstico cognitivo, 3D, modificável, dinâm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Repres. gráfica, indicação de tarefas a realizar, vá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ção de tarefas a realizar no amb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N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N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MD (Head Mounted Displa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e Worlds (20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érico, 3D, dinâm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Representação gráfica, vá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 tem (apenas movimentação dos avatar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N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N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reão (200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-learning, 2D/3D, está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Repres. gráfica, indicação de tarefas a realizar, ú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álogo em LN, Indicação de tarefas a realizar no amb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S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N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ML, XML, 3D Stud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AV Inteligentes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6" name="Rectangle 540"/>
          <p:cNvSpPr/>
          <p:nvPr/>
        </p:nvSpPr>
        <p:spPr>
          <a:xfrm>
            <a:off x="372960" y="781200"/>
            <a:ext cx="1211400" cy="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Oval 935"/>
          <p:cNvSpPr/>
          <p:nvPr/>
        </p:nvSpPr>
        <p:spPr>
          <a:xfrm>
            <a:off x="3637080" y="1413000"/>
            <a:ext cx="1439640" cy="718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Oval 936"/>
          <p:cNvSpPr/>
          <p:nvPr/>
        </p:nvSpPr>
        <p:spPr>
          <a:xfrm>
            <a:off x="7346880" y="1488960"/>
            <a:ext cx="936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Oval 938"/>
          <p:cNvSpPr/>
          <p:nvPr/>
        </p:nvSpPr>
        <p:spPr>
          <a:xfrm>
            <a:off x="6354720" y="1488960"/>
            <a:ext cx="10969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940"/>
          <p:cNvSpPr/>
          <p:nvPr/>
        </p:nvSpPr>
        <p:spPr>
          <a:xfrm>
            <a:off x="201600" y="1238400"/>
            <a:ext cx="1211400" cy="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Line 939"/>
          <p:cNvSpPr/>
          <p:nvPr/>
        </p:nvSpPr>
        <p:spPr>
          <a:xfrm>
            <a:off x="539640" y="1341360"/>
            <a:ext cx="1224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Fundamentação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67564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ossuem inteligência para atualizar o ambiente 3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odem auxiliar o usuário durante a interação, facilitando o processo de navegação ou alterando a complexidade do ambi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cc"/>
                </a:solidFill>
                <a:latin typeface="Verdana"/>
              </a:rPr>
              <a:t>Vantagens existentes nos AV Adaptati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oleta explícita e implícita do perfil do usuá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odelo do Usuário para armazenar perf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gras de inferência para atualizar perfil e determinar novos mundos virtua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gentes para assistência à navegação e acompanhamento das ações do usuá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258920" y="1484280"/>
            <a:ext cx="6626160" cy="4597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cc"/>
                </a:solidFill>
                <a:latin typeface="Verdana"/>
              </a:rPr>
              <a:t>Ambientes Virtuais Adaptativ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95280" y="1413000"/>
          <a:ext cx="8640720" cy="5475240"/>
        </p:xfrm>
        <a:graphic>
          <a:graphicData uri="http://schemas.openxmlformats.org/drawingml/2006/table">
            <a:tbl>
              <a:tblPr/>
              <a:tblGrid>
                <a:gridCol w="1255680"/>
                <a:gridCol w="1120680"/>
                <a:gridCol w="862200"/>
                <a:gridCol w="1301760"/>
                <a:gridCol w="1220760"/>
                <a:gridCol w="1266840"/>
                <a:gridCol w="893880"/>
                <a:gridCol w="718920"/>
              </a:tblGrid>
              <a:tr h="57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isi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t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Amb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ça de Avat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Uso de Ag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ação Agente/ Usuá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Perfil Usuá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daptável </a:t>
                      </a:r>
                      <a:r>
                        <a:rPr b="1" lang="pt-BR" sz="11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(Ambient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nologia utiliz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ry et al. (200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retenimento, 3D/2D, estát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Repres. gráfica, conhec. do ambiente e do usuário, ú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xilio a navegação e sugestõ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Coleta explícita (formulário), individual, está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S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RML, Ja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ttaro e Ranon (200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D, </a:t>
                      </a:r>
                      <a:r>
                        <a:rPr b="0" i="1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-commerce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dinâm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Repres. gráfica, conhec. dos objetos, vá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ulta, auxílio à naveg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Coleta implícita e explícita (formul. e naveg) individual e grupo, dinâm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S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RML, Ja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ttaro et al. (200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D, entretenimento, estát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Repres. gráfica, conhec. do ambiente, ú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xílio à naveg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Coleta explícita (formulário), individual, está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S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RML, Ja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tos (20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D/2D, disponibilização de conteúdos, estát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Repres. gráfica, conhec. do ambiente, ú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ulta, auxílio à naveg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Coleta explícita e implícita (formul. e naveg) individ., está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S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RML, Ja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stalayo et al.,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D/2D, e-learning, estát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N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Coleta explícita, individual, está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S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RML, Ja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 et al.,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D, projetos CAD, estát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N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Coleta explícita, individual, está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S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RML, C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AV adaptativos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201600" y="1055520"/>
            <a:ext cx="1211400" cy="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Line 4"/>
          <p:cNvSpPr/>
          <p:nvPr/>
        </p:nvSpPr>
        <p:spPr>
          <a:xfrm>
            <a:off x="395280" y="141300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Oval 375"/>
          <p:cNvSpPr/>
          <p:nvPr/>
        </p:nvSpPr>
        <p:spPr>
          <a:xfrm>
            <a:off x="3564000" y="1341360"/>
            <a:ext cx="1439640" cy="719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Oval 376"/>
          <p:cNvSpPr/>
          <p:nvPr/>
        </p:nvSpPr>
        <p:spPr>
          <a:xfrm>
            <a:off x="7380360" y="1374840"/>
            <a:ext cx="100800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Oval 377"/>
          <p:cNvSpPr/>
          <p:nvPr/>
        </p:nvSpPr>
        <p:spPr>
          <a:xfrm>
            <a:off x="6161040" y="1413000"/>
            <a:ext cx="123984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960" y="85680"/>
            <a:ext cx="78087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Verdana"/>
              </a:rPr>
              <a:t>Problemas em aberto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310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daptação no </a:t>
            </a:r>
            <a:r>
              <a:rPr b="0" lang="pt-BR" sz="2600" spc="-1" strike="noStrike">
                <a:solidFill>
                  <a:srgbClr val="0000cc"/>
                </a:solidFill>
                <a:latin typeface="Verdana"/>
              </a:rPr>
              <a:t>detalhamento do conteú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presentar os objetos com vários níveis de informaçã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259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daptatividade em </a:t>
            </a:r>
            <a:r>
              <a:rPr b="0" lang="pt-BR" sz="2600" spc="-1" strike="noStrike">
                <a:solidFill>
                  <a:srgbClr val="0000cc"/>
                </a:solidFill>
                <a:latin typeface="Verdana"/>
              </a:rPr>
              <a:t>tempo re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odificar as informações do mundo virtual durante a interação do usuá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259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cc"/>
                </a:solidFill>
                <a:latin typeface="Verdana"/>
              </a:rPr>
              <a:t>Reuso de objetos</a:t>
            </a: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 para construção de novos mun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cuperar apenas os objetos necessários à construção do A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22:52:42Z</dcterms:created>
  <dc:creator>Marcus Salerno de Aquino</dc:creator>
  <dc:description/>
  <dc:language>en-US</dc:language>
  <cp:lastModifiedBy>Fernando</cp:lastModifiedBy>
  <dcterms:modified xsi:type="dcterms:W3CDTF">2008-08-10T19:04:11Z</dcterms:modified>
  <cp:revision>593</cp:revision>
  <dc:subject/>
  <dc:title>ghjghjhgjhg</dc:title>
</cp:coreProperties>
</file>